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54F9-007F-40FB-B727-EB6CA24BE1A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ie wszyscy wiedzą, że słynna arabska „Księga tysiąca i jednej nocy” także jest dziełem średniowieczny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716-3F08-4E2E-BDD7-05BFF481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F55-D8F2-4F6E-9080-3E4882A0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682-794B-446F-8CC8-87D0E55D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5B3-4FDA-4029-BEF4-47148A74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2C45-CA93-4481-B8AF-E0B0D13E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C724-9462-44FF-8A87-3BABDF21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52A7-2260-4FD9-898A-39EBB41B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99F7-12CC-4825-89B7-AB973AA6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CB00-BE04-47E4-A302-AF2CF3D7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267E-2BFF-4B6C-89D5-C0BB51A5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A0AC-7BC6-4001-BF9F-5D19CDC5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510C-96D9-4294-B4A6-9C8FCF7E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59F1-5599-4181-9CAF-22CD48AB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AB8C-6E5E-4D55-A0F0-D7E616B0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53DC-589F-4580-BCAC-6470B7EB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D1C1-F17B-4422-A490-09EBA1BD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ECCF-CE78-443F-91BA-595C67CE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9D7-B543-4582-A1CA-EDB32B4F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587-6DA6-4147-A7FA-BA87EA2C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8BB-F578-4594-939F-EB831FD5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465-CF2D-45FF-AEAB-6D6506EB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902-C955-4757-BA00-F27755D1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4A6-4B1D-47A7-8E7E-13043741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4503-62EB-4DD1-98A0-80D73C25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l-PL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l-PL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l-PL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B819-5343-4401-BF7B-B379BF96DEFA}" type="slidenum">
              <a:rPr b="0" i="1" lang="pl-PL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l-PL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l-PL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l-PL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44B8-90ED-4A74-8E34-B19C985B571C}" type="slidenum">
              <a:rPr b="0" i="1" lang="pl-PL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dd39f"/>
                </a:solidFill>
                <a:latin typeface="ChevaraOutline"/>
              </a:rPr>
              <a:t>Średniowieczna Europa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eaeaea"/>
                </a:solidFill>
                <a:latin typeface="ChevaraOutline"/>
              </a:rPr>
              <a:t>Zar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edd39f"/>
                </a:solidFill>
                <a:latin typeface="Arioso"/>
              </a:rPr>
              <a:t>Spis treści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dd39f"/>
                </a:solidFill>
                <a:latin typeface="Monotype Corsiva"/>
              </a:rPr>
              <a:t>Obraz Europ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dd39f"/>
                </a:solidFill>
                <a:latin typeface="Monotype Corsiva"/>
              </a:rPr>
              <a:t>Uznawane wzor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dd39f"/>
                </a:solidFill>
                <a:latin typeface="Monotype Corsiva"/>
              </a:rPr>
              <a:t>Wielkie dzieł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dd39f"/>
                </a:solidFill>
                <a:latin typeface="Monotype Corsiva"/>
              </a:rPr>
              <a:t>Myśl filozoficz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dd39f"/>
                </a:solidFill>
                <a:latin typeface="Monotype Corsiva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3" name="j0144959" descr=""/>
          <p:cNvPicPr/>
          <p:nvPr/>
        </p:nvPicPr>
        <p:blipFill>
          <a:blip r:embed="rId6"/>
          <a:stretch/>
        </p:blipFill>
        <p:spPr>
          <a:xfrm>
            <a:off x="4648320" y="293364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dd39f"/>
                </a:solidFill>
                <a:latin typeface="ChevaraOutline"/>
              </a:rPr>
              <a:t>Obraz Europy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edd39f"/>
                </a:solidFill>
                <a:latin typeface="Monotype Corsiva"/>
              </a:rPr>
              <a:t>Uniwersaliz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edd39f"/>
                </a:solidFill>
                <a:latin typeface="Monotype Corsiva"/>
              </a:rPr>
              <a:t>Teocentryz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edd39f"/>
                </a:solidFill>
                <a:latin typeface="Monotype Corsiva"/>
              </a:rPr>
              <a:t>Dualizm świa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edd39f"/>
                </a:solidFill>
                <a:latin typeface="Monotype Corsiva"/>
              </a:rPr>
              <a:t>Magia i tajemniczoś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edd39f"/>
                </a:solidFill>
                <a:latin typeface="Monotype Corsiva"/>
              </a:rPr>
              <a:t>Anonimowość autoró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dd39f"/>
                </a:solidFill>
                <a:latin typeface="ChevaraOutline"/>
              </a:rPr>
              <a:t>Uznawane wzorce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zór wład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Monotype Corsiva"/>
              </a:rPr>
              <a:t>Karol Wielk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Monotype Corsiva"/>
              </a:rPr>
              <a:t>Król Art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Monotype Corsiva"/>
              </a:rPr>
              <a:t>Bolesław Chrob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zór święteg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Monotype Corsiva"/>
              </a:rPr>
              <a:t>Św. Aleks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Monotype Corsiva"/>
              </a:rPr>
              <a:t>Św. King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Monotype Corsiva"/>
              </a:rPr>
              <a:t>Św. Jerzy walczący ze smoki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zór rycerz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Monotype Corsiva"/>
              </a:rPr>
              <a:t>Roland z”Pieśni  o Rolandzie’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733920" y="2362320"/>
          <a:ext cx="4610160" cy="31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2362320"/>
                    <a:ext cx="4610160" cy="31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edd39f"/>
                </a:solidFill>
                <a:latin typeface="ChevaraOutline"/>
              </a:rPr>
              <a:t>Wielkie dzieła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ieśń o Rolandzi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zieje Tristana i Izoldy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ieśń o królu Arturze i rycerzach okrągłego stołu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Niemiecka „Pieśń o Nibelundach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2" name="BS00554_" descr=""/>
          <p:cNvPicPr/>
          <p:nvPr/>
        </p:nvPicPr>
        <p:blipFill>
          <a:blip r:embed="rId5"/>
          <a:stretch/>
        </p:blipFill>
        <p:spPr>
          <a:xfrm>
            <a:off x="914400" y="2728800"/>
            <a:ext cx="32767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edd39f"/>
                </a:solidFill>
                <a:latin typeface="ChevaraOutline"/>
              </a:rPr>
              <a:t>Myśl filozoficzna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Święty Augusty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Monotype Corsiva"/>
              </a:rPr>
              <a:t>„</a:t>
            </a:r>
            <a:r>
              <a:rPr b="0" lang="pl-PL" sz="3200" spc="-1" strike="noStrike">
                <a:solidFill>
                  <a:srgbClr val="eaeaea"/>
                </a:solidFill>
                <a:latin typeface="Monotype Corsiva"/>
              </a:rPr>
              <a:t>Pragnę poznać  Boga i duszę...I nic więcej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Święty Tomas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Monotype Corsiva"/>
              </a:rPr>
              <a:t>„</a:t>
            </a:r>
            <a:r>
              <a:rPr b="0" lang="pl-PL" sz="3200" spc="-1" strike="noStrike">
                <a:solidFill>
                  <a:srgbClr val="eaeaea"/>
                </a:solidFill>
                <a:latin typeface="Monotype Corsiva"/>
              </a:rPr>
              <a:t>Rozum nie niszczy wiary, lecz ją udoskonala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Święty Francisze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eaeaea"/>
                </a:solidFill>
                <a:latin typeface="Monotype Corsiva"/>
              </a:rPr>
              <a:t>Głosił filozofię wszechogarniającej miłości do świata i wszelkiego stworzenia jako dzieła Bożeg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edd39f"/>
                </a:solidFill>
                <a:latin typeface="ChevaraOutline"/>
              </a:rPr>
              <a:t>STYLE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OMAŃSK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udowle romańskie: kopulaste, ciężkie,kamienne gmachy projektowane wg planu krzyża.Słabe oświetlenie, stwarzające atmosferę skupienia.Przykłady:katedra w Bambergu, kościół w Tumie pod Łęczyc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295280" y="2057400"/>
          <a:ext cx="31687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57400"/>
                    <a:ext cx="31687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dd39f"/>
                </a:solidFill>
                <a:latin typeface="ChevaraOutline"/>
              </a:rPr>
              <a:t>Style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Gotyck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Kojarzy się z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Strzelistymi, smukłymi katedrami, których wnętrza nie obawiały się blasku światła, a w oknach umieszczano witraż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Katedry w Paryży Reims, Chartres dowodzą niezwykłości tego styl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648320" y="1752480"/>
          <a:ext cx="3516120" cy="480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752480"/>
                    <a:ext cx="35161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dd39f"/>
                </a:solidFill>
                <a:latin typeface="ChevaraOutline"/>
              </a:rPr>
              <a:t>Podsumowanie</a:t>
            </a:r>
            <a:br>
              <a:rPr sz="4400"/>
            </a:b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Za daty „kończące  epokę” uznan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1450- rok, w którym Gutenberg wynalazł druk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1453- rok upadku Konstantynopola, metropolii Zachodniego Cesarstw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1492-rok odkrycia Ameryki przez Krzysztofa Kolumb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</a:t>
            </a:r>
            <a:r>
              <a:rPr b="0" lang="pl-PL" sz="2800" spc="-1" strike="noStrike">
                <a:solidFill>
                  <a:srgbClr val="eaeaea"/>
                </a:solidFill>
                <a:latin typeface="Monotype Corsiva"/>
              </a:rPr>
              <a:t>Wykonała                                    Janina Raj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08:51:04Z</dcterms:created>
  <dc:creator>MEN</dc:creator>
  <dc:description/>
  <dc:language>en-US</dc:language>
  <cp:lastModifiedBy>MEN</cp:lastModifiedBy>
  <dcterms:modified xsi:type="dcterms:W3CDTF">2001-12-07T09:10:38Z</dcterms:modified>
  <cp:revision>8</cp:revision>
  <dc:subject/>
  <dc:title>Średniowieczna Europa</dc:title>
</cp:coreProperties>
</file>